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F08-6BFF-4237-AEA2-6D77CE8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6E1-5F41-46AC-8E9E-6DC8201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2E5-DCCF-41F4-A78A-42B0AD67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CE8-C136-49BB-8EFE-9C8BE9EB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C20-3B55-40D0-8FDF-782FBD23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0F6-B822-420A-85F1-12A82EBD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B5D-99E7-4A32-9A6F-9918EC1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330-1BB0-4120-B2CA-DF6D25C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DE0-016B-48A2-8B0C-6F9F7BD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1F2-5A76-49D0-BBEE-A514FB6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8EB-91DB-43A0-87E5-4C5BF79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C73-46E8-4999-8E7E-EB859E5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94E-9DC0-4274-A7C1-2B91B00D9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" y="963720"/>
          <a:ext cx="8888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63720"/>
                    <a:ext cx="8888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ение бюджета МО «Верхнебогатырское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2013 год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6816,3 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юджетные средства на выполнение полномоч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64,8 тыс.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040" y="1047600"/>
          <a:ext cx="8780760" cy="53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047600"/>
                    <a:ext cx="8780760" cy="53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ственные средства бюджета сельского посел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77 тыс. руб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17520" y="1866960"/>
          <a:ext cx="8607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866960"/>
                    <a:ext cx="8607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4:22:22Z</dcterms:created>
  <dc:creator>Пользователь</dc:creator>
  <dc:description/>
  <dc:language>en-US</dc:language>
  <cp:lastModifiedBy>Пользователь</cp:lastModifiedBy>
  <dcterms:modified xsi:type="dcterms:W3CDTF">2014-04-25T06:38:41Z</dcterms:modified>
  <cp:revision>7</cp:revision>
  <dc:subject/>
  <dc:title>Слайд 1</dc:title>
</cp:coreProperties>
</file>