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EFC-53B6-45B0-8927-45A6ED13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14F-6A6F-4000-AFC3-BBE6B4FC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B78-67D6-4D8B-8B71-E3B08E63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552-AEDF-4716-A8C9-D98A9580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58F-A6F1-471B-AEED-A0737EF5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F84-71D7-4D63-A6A1-3BA0861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84D-57ED-40E7-A6E3-6A9493AE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C3B-0F42-46BC-9480-9FFD3D4C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976-3786-451A-9B1C-3E9B7AD0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8F2-FF14-41D3-9F5E-2C7398C1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668-E15A-443B-872D-B8B32473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EB2-E1E0-48B0-A391-9773E068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061C-9218-4501-AE12-2C0E86FBA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Рисунок4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3"/>
          <p:cNvGrpSpPr/>
          <p:nvPr/>
        </p:nvGrpSpPr>
        <p:grpSpPr>
          <a:xfrm>
            <a:off x="4876920" y="4648320"/>
            <a:ext cx="304560" cy="304200"/>
            <a:chOff x="4876920" y="4648320"/>
            <a:chExt cx="304560" cy="304200"/>
          </a:xfrm>
        </p:grpSpPr>
        <p:grpSp>
          <p:nvGrpSpPr>
            <p:cNvPr id="43" name="Group 12"/>
            <p:cNvGrpSpPr/>
            <p:nvPr/>
          </p:nvGrpSpPr>
          <p:grpSpPr>
            <a:xfrm>
              <a:off x="4876920" y="4648320"/>
              <a:ext cx="304560" cy="190440"/>
              <a:chOff x="4876920" y="4648320"/>
              <a:chExt cx="304560" cy="190440"/>
            </a:xfrm>
          </p:grpSpPr>
          <p:sp>
            <p:nvSpPr>
              <p:cNvPr id="44" name="Oval 10"/>
              <p:cNvSpPr/>
              <p:nvPr/>
            </p:nvSpPr>
            <p:spPr>
              <a:xfrm>
                <a:off x="4920120" y="464832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Rectangle 11"/>
              <p:cNvSpPr/>
              <p:nvPr/>
            </p:nvSpPr>
            <p:spPr>
              <a:xfrm>
                <a:off x="4876920" y="4724640"/>
                <a:ext cx="304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Rectangle 8"/>
            <p:cNvSpPr/>
            <p:nvPr/>
          </p:nvSpPr>
          <p:spPr>
            <a:xfrm>
              <a:off x="4920120" y="472428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 rot="10800000">
              <a:off x="4919760" y="4800240"/>
              <a:ext cx="217800" cy="1522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Group 17"/>
          <p:cNvGrpSpPr/>
          <p:nvPr/>
        </p:nvGrpSpPr>
        <p:grpSpPr>
          <a:xfrm>
            <a:off x="5715000" y="4800600"/>
            <a:ext cx="304920" cy="304560"/>
            <a:chOff x="5715000" y="4800600"/>
            <a:chExt cx="304920" cy="304560"/>
          </a:xfrm>
        </p:grpSpPr>
        <p:grpSp>
          <p:nvGrpSpPr>
            <p:cNvPr id="49" name="Group 18"/>
            <p:cNvGrpSpPr/>
            <p:nvPr/>
          </p:nvGrpSpPr>
          <p:grpSpPr>
            <a:xfrm>
              <a:off x="5715000" y="4800600"/>
              <a:ext cx="304920" cy="190440"/>
              <a:chOff x="5715000" y="4800600"/>
              <a:chExt cx="304920" cy="190440"/>
            </a:xfrm>
          </p:grpSpPr>
          <p:sp>
            <p:nvSpPr>
              <p:cNvPr id="50" name="Oval 19"/>
              <p:cNvSpPr/>
              <p:nvPr/>
            </p:nvSpPr>
            <p:spPr>
              <a:xfrm>
                <a:off x="5758200" y="480060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20"/>
              <p:cNvSpPr/>
              <p:nvPr/>
            </p:nvSpPr>
            <p:spPr>
              <a:xfrm>
                <a:off x="5715000" y="4876920"/>
                <a:ext cx="30492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Rectangle 21"/>
            <p:cNvSpPr/>
            <p:nvPr/>
          </p:nvSpPr>
          <p:spPr>
            <a:xfrm>
              <a:off x="5758200" y="487656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22"/>
            <p:cNvSpPr/>
            <p:nvPr/>
          </p:nvSpPr>
          <p:spPr>
            <a:xfrm rot="10800000">
              <a:off x="5757840" y="4952880"/>
              <a:ext cx="217800" cy="1522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23"/>
          <p:cNvGrpSpPr/>
          <p:nvPr/>
        </p:nvGrpSpPr>
        <p:grpSpPr>
          <a:xfrm>
            <a:off x="380880" y="4114800"/>
            <a:ext cx="304920" cy="304560"/>
            <a:chOff x="380880" y="4114800"/>
            <a:chExt cx="304920" cy="304560"/>
          </a:xfrm>
        </p:grpSpPr>
        <p:grpSp>
          <p:nvGrpSpPr>
            <p:cNvPr id="55" name="Group 24"/>
            <p:cNvGrpSpPr/>
            <p:nvPr/>
          </p:nvGrpSpPr>
          <p:grpSpPr>
            <a:xfrm>
              <a:off x="380880" y="4114800"/>
              <a:ext cx="304920" cy="190440"/>
              <a:chOff x="380880" y="4114800"/>
              <a:chExt cx="304920" cy="190440"/>
            </a:xfrm>
          </p:grpSpPr>
          <p:sp>
            <p:nvSpPr>
              <p:cNvPr id="56" name="Oval 25"/>
              <p:cNvSpPr/>
              <p:nvPr/>
            </p:nvSpPr>
            <p:spPr>
              <a:xfrm>
                <a:off x="424080" y="411480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26"/>
              <p:cNvSpPr/>
              <p:nvPr/>
            </p:nvSpPr>
            <p:spPr>
              <a:xfrm>
                <a:off x="380880" y="4191120"/>
                <a:ext cx="30492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Rectangle 27"/>
            <p:cNvSpPr/>
            <p:nvPr/>
          </p:nvSpPr>
          <p:spPr>
            <a:xfrm>
              <a:off x="424080" y="419076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28"/>
            <p:cNvSpPr/>
            <p:nvPr/>
          </p:nvSpPr>
          <p:spPr>
            <a:xfrm rot="10800000">
              <a:off x="423720" y="4267080"/>
              <a:ext cx="217800" cy="1522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Прямоугольник 5"/>
          <p:cNvSpPr/>
          <p:nvPr/>
        </p:nvSpPr>
        <p:spPr>
          <a:xfrm>
            <a:off x="0" y="0"/>
            <a:ext cx="9144000" cy="1395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хем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акрепления секторов оповещения и информирования населения МО «Глазовский район»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лужбами экстренного реагиро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77"/>
          <p:cNvSpPr/>
          <p:nvPr/>
        </p:nvSpPr>
        <p:spPr>
          <a:xfrm>
            <a:off x="6172200" y="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 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ожению о своевременном оповещении и информировании населения муниципального образования «Глазовский район»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грозе и возникновении чрезвычайных ситуаций, а также об опасностях, возникающих при ведении военных действий или вследствие этих действий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01 августа 2013 года   № 84.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09"/>
          <p:cNvSpPr/>
          <p:nvPr/>
        </p:nvSpPr>
        <p:spPr>
          <a:xfrm>
            <a:off x="304920" y="1905120"/>
            <a:ext cx="1828800" cy="1447560"/>
          </a:xfrm>
          <a:prstGeom prst="wedgeRectCallout">
            <a:avLst>
              <a:gd name="adj1" fmla="val 92013"/>
              <a:gd name="adj2" fmla="val 35745"/>
            </a:avLst>
          </a:prstGeom>
          <a:solidFill>
            <a:srgbClr val="ffff0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Зона ответственности оповещения отдел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ММО МВД РФ «Глазовский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Должностное лицо, ответственное за выделение транспортных средств Коломиец Юрий Геннадьевич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8-919-916-82-9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1"/>
          <p:cNvSpPr/>
          <p:nvPr/>
        </p:nvSpPr>
        <p:spPr>
          <a:xfrm>
            <a:off x="7010280" y="5411880"/>
            <a:ext cx="2133720" cy="1446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3"/>
          <p:cNvSpPr/>
          <p:nvPr/>
        </p:nvSpPr>
        <p:spPr>
          <a:xfrm>
            <a:off x="7010280" y="5410080"/>
            <a:ext cx="2133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7775280" y="6095880"/>
            <a:ext cx="1116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лектросирен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21"/>
          <p:cNvGrpSpPr/>
          <p:nvPr/>
        </p:nvGrpSpPr>
        <p:grpSpPr>
          <a:xfrm>
            <a:off x="7391520" y="6095880"/>
            <a:ext cx="228600" cy="263520"/>
            <a:chOff x="7391520" y="6095880"/>
            <a:chExt cx="228600" cy="263520"/>
          </a:xfrm>
        </p:grpSpPr>
        <p:grpSp>
          <p:nvGrpSpPr>
            <p:cNvPr id="67" name="Group 88"/>
            <p:cNvGrpSpPr/>
            <p:nvPr/>
          </p:nvGrpSpPr>
          <p:grpSpPr>
            <a:xfrm>
              <a:off x="7391520" y="6095880"/>
              <a:ext cx="228600" cy="164520"/>
              <a:chOff x="7391520" y="6095880"/>
              <a:chExt cx="228600" cy="164520"/>
            </a:xfrm>
          </p:grpSpPr>
          <p:sp>
            <p:nvSpPr>
              <p:cNvPr id="68" name="Oval 89"/>
              <p:cNvSpPr/>
              <p:nvPr/>
            </p:nvSpPr>
            <p:spPr>
              <a:xfrm>
                <a:off x="7423920" y="6095880"/>
                <a:ext cx="163440" cy="13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90"/>
              <p:cNvSpPr/>
              <p:nvPr/>
            </p:nvSpPr>
            <p:spPr>
              <a:xfrm>
                <a:off x="7391520" y="6161760"/>
                <a:ext cx="228600" cy="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Rectangle 91"/>
            <p:cNvSpPr/>
            <p:nvPr/>
          </p:nvSpPr>
          <p:spPr>
            <a:xfrm>
              <a:off x="7424640" y="6162480"/>
              <a:ext cx="162000" cy="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92"/>
            <p:cNvSpPr/>
            <p:nvPr/>
          </p:nvSpPr>
          <p:spPr>
            <a:xfrm rot="10800000">
              <a:off x="7424640" y="6227640"/>
              <a:ext cx="162000" cy="131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23"/>
          <p:cNvGrpSpPr/>
          <p:nvPr/>
        </p:nvGrpSpPr>
        <p:grpSpPr>
          <a:xfrm>
            <a:off x="2819520" y="5943600"/>
            <a:ext cx="304560" cy="304560"/>
            <a:chOff x="2819520" y="5943600"/>
            <a:chExt cx="304560" cy="304560"/>
          </a:xfrm>
        </p:grpSpPr>
        <p:grpSp>
          <p:nvGrpSpPr>
            <p:cNvPr id="73" name="Group 24"/>
            <p:cNvGrpSpPr/>
            <p:nvPr/>
          </p:nvGrpSpPr>
          <p:grpSpPr>
            <a:xfrm>
              <a:off x="2819520" y="5943600"/>
              <a:ext cx="304560" cy="190440"/>
              <a:chOff x="2819520" y="5943600"/>
              <a:chExt cx="304560" cy="190440"/>
            </a:xfrm>
          </p:grpSpPr>
          <p:sp>
            <p:nvSpPr>
              <p:cNvPr id="74" name="Oval 25"/>
              <p:cNvSpPr/>
              <p:nvPr/>
            </p:nvSpPr>
            <p:spPr>
              <a:xfrm>
                <a:off x="2862720" y="594360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26"/>
              <p:cNvSpPr/>
              <p:nvPr/>
            </p:nvSpPr>
            <p:spPr>
              <a:xfrm>
                <a:off x="2819520" y="6019920"/>
                <a:ext cx="304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Rectangle 27"/>
            <p:cNvSpPr/>
            <p:nvPr/>
          </p:nvSpPr>
          <p:spPr>
            <a:xfrm>
              <a:off x="2862720" y="601956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28"/>
            <p:cNvSpPr/>
            <p:nvPr/>
          </p:nvSpPr>
          <p:spPr>
            <a:xfrm rot="10800000">
              <a:off x="2862360" y="6095880"/>
              <a:ext cx="217800" cy="1522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AutoShape 108"/>
          <p:cNvSpPr/>
          <p:nvPr/>
        </p:nvSpPr>
        <p:spPr>
          <a:xfrm>
            <a:off x="609480" y="4648320"/>
            <a:ext cx="1828800" cy="1704960"/>
          </a:xfrm>
          <a:prstGeom prst="wedgeRectCallout">
            <a:avLst>
              <a:gd name="adj1" fmla="val 107291"/>
              <a:gd name="adj2" fmla="val -4581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Зона ответственности оповещения МУЗ «Глазовская ЦРБ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Должностное лицо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ответственное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за выделение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транспортных средств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Овсянников Михаил Евгеньевич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8-912-874-62-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6"/>
          <p:cNvSpPr/>
          <p:nvPr/>
        </p:nvSpPr>
        <p:spPr>
          <a:xfrm>
            <a:off x="7391520" y="2819520"/>
            <a:ext cx="1493640" cy="1676160"/>
          </a:xfrm>
          <a:prstGeom prst="wedgeRectCallout">
            <a:avLst>
              <a:gd name="adj1" fmla="val -186027"/>
              <a:gd name="adj2" fmla="val 40435"/>
            </a:avLst>
          </a:prstGeom>
          <a:solidFill>
            <a:srgbClr val="ffff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Зона ответственности оповещения ПЧ-17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Должностное лицо, ответственно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за выделение транспортных средств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Данилов Алексей Евгеньевич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8-912-855-13-0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90920" y="5481720"/>
          <a:ext cx="4286160" cy="1377720"/>
        </p:xfrm>
        <a:graphic>
          <a:graphicData uri="http://schemas.openxmlformats.org/drawingml/2006/table">
            <a:tbl>
              <a:tblPr/>
              <a:tblGrid>
                <a:gridCol w="355320"/>
                <a:gridCol w="1771920"/>
                <a:gridCol w="780840"/>
                <a:gridCol w="765360"/>
                <a:gridCol w="6127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лужб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жил.домов, СЗ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населения (чел.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О МВД РФ «Глазовский»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 Глазовская ЦРБ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4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 ГПС (ПЧ-17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4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10-04T05:51:04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