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BDA-CCFD-4930-B66E-D9174068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197-19F4-4215-90EE-6611BAC5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DBF-1345-478F-A7BA-28FBE368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3F7-6463-48B9-8712-9B70A637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DF1-1488-4434-874C-86B4091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5DF-584B-4E1B-89E4-12422A9C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767-028D-47DB-8377-5BB47E8B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73A-020D-4C9F-869D-D6FF7929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167-DA64-443E-B350-5A639D09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F72-CFBF-4CFF-B233-8E0C306C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335-569D-4994-9B11-25D886D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D4E-4810-4C2B-95FA-05D45B1B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6C04-A4BB-4CFA-8092-2B989830E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34"/>
          <p:cNvSpPr/>
          <p:nvPr/>
        </p:nvSpPr>
        <p:spPr>
          <a:xfrm>
            <a:off x="149400" y="806400"/>
            <a:ext cx="1753920" cy="709560"/>
          </a:xfrm>
          <a:prstGeom prst="pi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11"/>
          <p:cNvGraphicFramePr/>
          <p:nvPr/>
        </p:nvGraphicFramePr>
        <p:xfrm>
          <a:off x="380880" y="990720"/>
          <a:ext cx="8485200" cy="55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48520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13"/>
          <p:cNvGraphicFramePr/>
          <p:nvPr/>
        </p:nvGraphicFramePr>
        <p:xfrm>
          <a:off x="4572000" y="2133720"/>
          <a:ext cx="18493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133720"/>
                    <a:ext cx="18493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22"/>
          <p:cNvSpPr/>
          <p:nvPr/>
        </p:nvSpPr>
        <p:spPr>
          <a:xfrm>
            <a:off x="990720" y="1905120"/>
            <a:ext cx="7467480" cy="403848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Object 25"/>
          <p:cNvGraphicFramePr/>
          <p:nvPr/>
        </p:nvGraphicFramePr>
        <p:xfrm>
          <a:off x="152280" y="5410080"/>
          <a:ext cx="152424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410080"/>
                    <a:ext cx="15242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Picture 23" descr=""/>
          <p:cNvPicPr/>
          <p:nvPr/>
        </p:nvPicPr>
        <p:blipFill>
          <a:blip r:embed="rId7"/>
          <a:stretch/>
        </p:blipFill>
        <p:spPr>
          <a:xfrm>
            <a:off x="228600" y="548640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6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  д.Ч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6732720" y="83808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Кожил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.В. Ельцо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28"/>
          <p:cNvGraphicFramePr/>
          <p:nvPr/>
        </p:nvGraphicFramePr>
        <p:xfrm>
          <a:off x="6211800" y="0"/>
          <a:ext cx="2932200" cy="344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11800" y="0"/>
                    <a:ext cx="2932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29"/>
          <p:cNvSpPr/>
          <p:nvPr/>
        </p:nvSpPr>
        <p:spPr>
          <a:xfrm>
            <a:off x="4419720" y="6400800"/>
            <a:ext cx="3657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населенного пункта Чупин А.Л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30"/>
          <p:cNvSpPr/>
          <p:nvPr/>
        </p:nvSpPr>
        <p:spPr>
          <a:xfrm>
            <a:off x="6629400" y="4038480"/>
            <a:ext cx="2286000" cy="228600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31"/>
          <p:cNvGraphicFramePr/>
          <p:nvPr/>
        </p:nvGraphicFramePr>
        <p:xfrm>
          <a:off x="7620120" y="4952880"/>
          <a:ext cx="247680" cy="30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0120" y="4952880"/>
                    <a:ext cx="247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2"/>
          <p:cNvSpPr/>
          <p:nvPr/>
        </p:nvSpPr>
        <p:spPr>
          <a:xfrm>
            <a:off x="1828800" y="5410080"/>
            <a:ext cx="1447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ароста Чупин А.Л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л. Центральная, Клубная, Береговая, Нижняя, Полевая, Лесная, Молодежная, Верхняя, Предорожная, Лугов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7620120" y="5791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5-31T13:08:50Z</dcterms:modified>
  <cp:revision>14</cp:revision>
  <dc:subject/>
  <dc:title>Презентация PowerPoint</dc:title>
</cp:coreProperties>
</file>