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71A7-3B4C-4520-B46A-150ED14AF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6193-75E4-42D0-B309-C9114E8FD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CF66-CA50-41A4-BFD0-A7A4526A7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7C95-0FD4-494D-A829-CC4FA034B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6A7E-008D-4E44-B995-26B64EEF2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37E5-DE57-4144-B104-FC3E4B9CB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B0EB-4DBE-402A-9E30-946B1EEB7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425B-98FA-4D0C-AFEC-FC82FCAB2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0004-7C7D-4C89-8676-8F70B6098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FB52-7C05-40A5-95F2-12F41E0AA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5112-FAEA-432C-9D59-75387461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5990-3128-4E48-88E2-CCED99BCC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0523A-C13D-448A-AA70-BB34CCBAA7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.wmf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3"/>
          <p:cNvGraphicFramePr/>
          <p:nvPr/>
        </p:nvGraphicFramePr>
        <p:xfrm>
          <a:off x="762120" y="2163600"/>
          <a:ext cx="7954920" cy="469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163600"/>
                    <a:ext cx="7954920" cy="469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Прямоугольник 51"/>
          <p:cNvSpPr/>
          <p:nvPr/>
        </p:nvSpPr>
        <p:spPr>
          <a:xfrm>
            <a:off x="5113440" y="2306520"/>
            <a:ext cx="515880" cy="3096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рямоугольник 51"/>
          <p:cNvSpPr/>
          <p:nvPr/>
        </p:nvSpPr>
        <p:spPr>
          <a:xfrm>
            <a:off x="5873760" y="2306520"/>
            <a:ext cx="514440" cy="46368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51"/>
          <p:cNvSpPr/>
          <p:nvPr/>
        </p:nvSpPr>
        <p:spPr>
          <a:xfrm>
            <a:off x="4411800" y="3645000"/>
            <a:ext cx="257040" cy="15372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51"/>
          <p:cNvSpPr/>
          <p:nvPr/>
        </p:nvSpPr>
        <p:spPr>
          <a:xfrm>
            <a:off x="4772160" y="3664080"/>
            <a:ext cx="360360" cy="20628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оугольник 51"/>
          <p:cNvSpPr/>
          <p:nvPr/>
        </p:nvSpPr>
        <p:spPr>
          <a:xfrm>
            <a:off x="5388120" y="3489480"/>
            <a:ext cx="206280" cy="15552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оугольник 51"/>
          <p:cNvSpPr/>
          <p:nvPr/>
        </p:nvSpPr>
        <p:spPr>
          <a:xfrm>
            <a:off x="5181480" y="3733920"/>
            <a:ext cx="685800" cy="15228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51"/>
          <p:cNvSpPr/>
          <p:nvPr/>
        </p:nvSpPr>
        <p:spPr>
          <a:xfrm>
            <a:off x="5529240" y="3701880"/>
            <a:ext cx="206280" cy="15408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51"/>
          <p:cNvSpPr/>
          <p:nvPr/>
        </p:nvSpPr>
        <p:spPr>
          <a:xfrm rot="20737800">
            <a:off x="4035600" y="4362120"/>
            <a:ext cx="617400" cy="5112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51"/>
          <p:cNvSpPr/>
          <p:nvPr/>
        </p:nvSpPr>
        <p:spPr>
          <a:xfrm>
            <a:off x="5851440" y="4210200"/>
            <a:ext cx="360360" cy="20448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оугольник 51"/>
          <p:cNvSpPr/>
          <p:nvPr/>
        </p:nvSpPr>
        <p:spPr>
          <a:xfrm rot="20514600">
            <a:off x="2964960" y="6141600"/>
            <a:ext cx="155880" cy="24948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51"/>
          <p:cNvSpPr/>
          <p:nvPr/>
        </p:nvSpPr>
        <p:spPr>
          <a:xfrm rot="21094800">
            <a:off x="4309920" y="5211360"/>
            <a:ext cx="561960" cy="2048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51"/>
          <p:cNvSpPr/>
          <p:nvPr/>
        </p:nvSpPr>
        <p:spPr>
          <a:xfrm rot="21094800">
            <a:off x="5084280" y="5811840"/>
            <a:ext cx="822600" cy="29988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51"/>
          <p:cNvSpPr/>
          <p:nvPr/>
        </p:nvSpPr>
        <p:spPr>
          <a:xfrm rot="21000600">
            <a:off x="2973240" y="3213000"/>
            <a:ext cx="1071720" cy="25740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51"/>
          <p:cNvSpPr/>
          <p:nvPr/>
        </p:nvSpPr>
        <p:spPr>
          <a:xfrm>
            <a:off x="6006960" y="3078000"/>
            <a:ext cx="1182960" cy="20484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51"/>
          <p:cNvSpPr/>
          <p:nvPr/>
        </p:nvSpPr>
        <p:spPr>
          <a:xfrm>
            <a:off x="6006960" y="3438360"/>
            <a:ext cx="820800" cy="1540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оугольник 51"/>
          <p:cNvSpPr/>
          <p:nvPr/>
        </p:nvSpPr>
        <p:spPr>
          <a:xfrm>
            <a:off x="3279600" y="4673520"/>
            <a:ext cx="463680" cy="30816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51"/>
          <p:cNvSpPr/>
          <p:nvPr/>
        </p:nvSpPr>
        <p:spPr>
          <a:xfrm rot="21346800">
            <a:off x="811080" y="5700240"/>
            <a:ext cx="617760" cy="30960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51"/>
          <p:cNvSpPr/>
          <p:nvPr/>
        </p:nvSpPr>
        <p:spPr>
          <a:xfrm rot="20264400">
            <a:off x="2120760" y="5171760"/>
            <a:ext cx="333360" cy="34776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51"/>
          <p:cNvSpPr/>
          <p:nvPr/>
        </p:nvSpPr>
        <p:spPr>
          <a:xfrm rot="21247800">
            <a:off x="1485720" y="5700600"/>
            <a:ext cx="1081080" cy="3081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51"/>
          <p:cNvSpPr/>
          <p:nvPr/>
        </p:nvSpPr>
        <p:spPr>
          <a:xfrm rot="21039600">
            <a:off x="2973240" y="5516640"/>
            <a:ext cx="1231920" cy="2826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51"/>
          <p:cNvSpPr/>
          <p:nvPr/>
        </p:nvSpPr>
        <p:spPr>
          <a:xfrm rot="20893200">
            <a:off x="1792440" y="6253200"/>
            <a:ext cx="874440" cy="2714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оугольник 51"/>
          <p:cNvSpPr/>
          <p:nvPr/>
        </p:nvSpPr>
        <p:spPr>
          <a:xfrm>
            <a:off x="963720" y="6318360"/>
            <a:ext cx="774720" cy="25704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оугольник 51"/>
          <p:cNvSpPr/>
          <p:nvPr/>
        </p:nvSpPr>
        <p:spPr>
          <a:xfrm rot="20969400">
            <a:off x="4512960" y="5897160"/>
            <a:ext cx="557280" cy="2602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рямоугольник 51"/>
          <p:cNvSpPr/>
          <p:nvPr/>
        </p:nvSpPr>
        <p:spPr>
          <a:xfrm rot="21069600">
            <a:off x="3177720" y="6019920"/>
            <a:ext cx="1177920" cy="2728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51"/>
          <p:cNvSpPr/>
          <p:nvPr/>
        </p:nvSpPr>
        <p:spPr>
          <a:xfrm rot="20634000">
            <a:off x="2719080" y="6162840"/>
            <a:ext cx="204840" cy="2728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51"/>
          <p:cNvSpPr/>
          <p:nvPr/>
        </p:nvSpPr>
        <p:spPr>
          <a:xfrm>
            <a:off x="8217000" y="3541680"/>
            <a:ext cx="258840" cy="4618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оугольник 51"/>
          <p:cNvSpPr/>
          <p:nvPr/>
        </p:nvSpPr>
        <p:spPr>
          <a:xfrm rot="21346800">
            <a:off x="4868640" y="4098960"/>
            <a:ext cx="822240" cy="21276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оугольник 51"/>
          <p:cNvSpPr/>
          <p:nvPr/>
        </p:nvSpPr>
        <p:spPr>
          <a:xfrm>
            <a:off x="6375240" y="4422600"/>
            <a:ext cx="360360" cy="2048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ямоугольник 51"/>
          <p:cNvSpPr/>
          <p:nvPr/>
        </p:nvSpPr>
        <p:spPr>
          <a:xfrm>
            <a:off x="6211800" y="4724280"/>
            <a:ext cx="358920" cy="3081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оугольник 51"/>
          <p:cNvSpPr/>
          <p:nvPr/>
        </p:nvSpPr>
        <p:spPr>
          <a:xfrm rot="866400">
            <a:off x="7515360" y="3227400"/>
            <a:ext cx="603000" cy="1540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оугольник 51"/>
          <p:cNvSpPr/>
          <p:nvPr/>
        </p:nvSpPr>
        <p:spPr>
          <a:xfrm rot="20996400">
            <a:off x="4213080" y="5365440"/>
            <a:ext cx="1233720" cy="28404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рямоугольник 51"/>
          <p:cNvSpPr/>
          <p:nvPr/>
        </p:nvSpPr>
        <p:spPr>
          <a:xfrm rot="339000">
            <a:off x="7182000" y="4258800"/>
            <a:ext cx="358560" cy="3621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рямоугольник 51"/>
          <p:cNvSpPr/>
          <p:nvPr/>
        </p:nvSpPr>
        <p:spPr>
          <a:xfrm rot="1095000">
            <a:off x="7340400" y="3516120"/>
            <a:ext cx="209520" cy="4618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оугольник 51"/>
          <p:cNvSpPr/>
          <p:nvPr/>
        </p:nvSpPr>
        <p:spPr>
          <a:xfrm rot="1095000">
            <a:off x="7661160" y="3482640"/>
            <a:ext cx="209520" cy="20484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угольник 51"/>
          <p:cNvSpPr/>
          <p:nvPr/>
        </p:nvSpPr>
        <p:spPr>
          <a:xfrm rot="1095000">
            <a:off x="7548120" y="3857760"/>
            <a:ext cx="208080" cy="2044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оугольник 51"/>
          <p:cNvSpPr/>
          <p:nvPr/>
        </p:nvSpPr>
        <p:spPr>
          <a:xfrm rot="525000">
            <a:off x="6919920" y="5133960"/>
            <a:ext cx="358920" cy="3603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Прямоугольник 51"/>
          <p:cNvSpPr/>
          <p:nvPr/>
        </p:nvSpPr>
        <p:spPr>
          <a:xfrm rot="1310400">
            <a:off x="6819480" y="3589200"/>
            <a:ext cx="203400" cy="37152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оугольник 51"/>
          <p:cNvSpPr/>
          <p:nvPr/>
        </p:nvSpPr>
        <p:spPr>
          <a:xfrm rot="813600">
            <a:off x="7025760" y="4665600"/>
            <a:ext cx="360360" cy="52092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Прямоугольник 51"/>
          <p:cNvSpPr/>
          <p:nvPr/>
        </p:nvSpPr>
        <p:spPr>
          <a:xfrm rot="2923800">
            <a:off x="6631200" y="5328360"/>
            <a:ext cx="308160" cy="68724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рямоугольник 51"/>
          <p:cNvSpPr/>
          <p:nvPr/>
        </p:nvSpPr>
        <p:spPr>
          <a:xfrm>
            <a:off x="5541840" y="5238720"/>
            <a:ext cx="465120" cy="30816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ик 51"/>
          <p:cNvSpPr/>
          <p:nvPr/>
        </p:nvSpPr>
        <p:spPr>
          <a:xfrm rot="19161600">
            <a:off x="5987880" y="5070240"/>
            <a:ext cx="463680" cy="26820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45"/>
          <p:cNvSpPr/>
          <p:nvPr/>
        </p:nvSpPr>
        <p:spPr>
          <a:xfrm>
            <a:off x="998640" y="6523200"/>
            <a:ext cx="73800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2306520"/>
                <a:tab algn="l" pos="2494080"/>
                <a:tab algn="l" pos="256068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    74  7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46"/>
          <p:cNvSpPr/>
          <p:nvPr/>
        </p:nvSpPr>
        <p:spPr>
          <a:xfrm rot="21075600">
            <a:off x="1852200" y="6215040"/>
            <a:ext cx="413388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2306520"/>
                <a:tab algn="l" pos="2494080"/>
                <a:tab algn="l" pos="256068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  68  66  64   62  60  58 56  54 52  50 48     46  44  42 40  38 36 34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 Box 47"/>
          <p:cNvSpPr/>
          <p:nvPr/>
        </p:nvSpPr>
        <p:spPr>
          <a:xfrm rot="19491600">
            <a:off x="6578640" y="5690880"/>
            <a:ext cx="73800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2306520"/>
                <a:tab algn="l" pos="2494080"/>
                <a:tab algn="l" pos="256068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    30  28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 Box 48"/>
          <p:cNvSpPr/>
          <p:nvPr/>
        </p:nvSpPr>
        <p:spPr>
          <a:xfrm>
            <a:off x="7189920" y="5342040"/>
            <a:ext cx="25704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2306520"/>
                <a:tab algn="l" pos="2494080"/>
                <a:tab algn="l" pos="256068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 Box 49"/>
          <p:cNvSpPr/>
          <p:nvPr/>
        </p:nvSpPr>
        <p:spPr>
          <a:xfrm>
            <a:off x="7240680" y="5187960"/>
            <a:ext cx="25704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2306520"/>
                <a:tab algn="l" pos="2494080"/>
                <a:tab algn="l" pos="256068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 Box 50"/>
          <p:cNvSpPr/>
          <p:nvPr/>
        </p:nvSpPr>
        <p:spPr>
          <a:xfrm>
            <a:off x="7292880" y="5032440"/>
            <a:ext cx="25740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2306520"/>
                <a:tab algn="l" pos="2494080"/>
                <a:tab algn="l" pos="256068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51"/>
          <p:cNvSpPr/>
          <p:nvPr/>
        </p:nvSpPr>
        <p:spPr>
          <a:xfrm>
            <a:off x="7343640" y="4878360"/>
            <a:ext cx="25740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2306520"/>
                <a:tab algn="l" pos="2494080"/>
                <a:tab algn="l" pos="256068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52"/>
          <p:cNvSpPr/>
          <p:nvPr/>
        </p:nvSpPr>
        <p:spPr>
          <a:xfrm>
            <a:off x="7394400" y="4724280"/>
            <a:ext cx="25740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2306520"/>
                <a:tab algn="l" pos="2494080"/>
                <a:tab algn="l" pos="256068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 Box 53"/>
          <p:cNvSpPr/>
          <p:nvPr/>
        </p:nvSpPr>
        <p:spPr>
          <a:xfrm>
            <a:off x="7446960" y="4464000"/>
            <a:ext cx="25704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2306520"/>
                <a:tab algn="l" pos="2494080"/>
                <a:tab algn="l" pos="256068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 Box 54"/>
          <p:cNvSpPr/>
          <p:nvPr/>
        </p:nvSpPr>
        <p:spPr>
          <a:xfrm>
            <a:off x="7497720" y="4311720"/>
            <a:ext cx="25704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2306520"/>
                <a:tab algn="l" pos="2494080"/>
                <a:tab algn="l" pos="256068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55"/>
          <p:cNvSpPr/>
          <p:nvPr/>
        </p:nvSpPr>
        <p:spPr>
          <a:xfrm>
            <a:off x="8454960" y="3506760"/>
            <a:ext cx="25740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2306520"/>
                <a:tab algn="l" pos="2494080"/>
                <a:tab algn="l" pos="256068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56"/>
          <p:cNvSpPr/>
          <p:nvPr/>
        </p:nvSpPr>
        <p:spPr>
          <a:xfrm>
            <a:off x="8440560" y="3652920"/>
            <a:ext cx="25740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2306520"/>
                <a:tab algn="l" pos="2494080"/>
                <a:tab algn="l" pos="256068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57"/>
          <p:cNvSpPr/>
          <p:nvPr/>
        </p:nvSpPr>
        <p:spPr>
          <a:xfrm>
            <a:off x="8427960" y="3814920"/>
            <a:ext cx="25740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2306520"/>
                <a:tab algn="l" pos="2494080"/>
                <a:tab algn="l" pos="256068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58"/>
          <p:cNvSpPr/>
          <p:nvPr/>
        </p:nvSpPr>
        <p:spPr>
          <a:xfrm>
            <a:off x="6002280" y="2878200"/>
            <a:ext cx="123516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2306520"/>
                <a:tab algn="l" pos="2494080"/>
                <a:tab algn="l" pos="256068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  3   5    7    9  1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59"/>
          <p:cNvSpPr/>
          <p:nvPr/>
        </p:nvSpPr>
        <p:spPr>
          <a:xfrm>
            <a:off x="6006960" y="3541680"/>
            <a:ext cx="87336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2306520"/>
                <a:tab algn="l" pos="2494080"/>
                <a:tab algn="l" pos="256068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4  6 8 10 1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60"/>
          <p:cNvSpPr/>
          <p:nvPr/>
        </p:nvSpPr>
        <p:spPr>
          <a:xfrm>
            <a:off x="8050320" y="3112920"/>
            <a:ext cx="25704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2306520"/>
                <a:tab algn="l" pos="2494080"/>
                <a:tab algn="l" pos="256068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61"/>
          <p:cNvSpPr/>
          <p:nvPr/>
        </p:nvSpPr>
        <p:spPr>
          <a:xfrm>
            <a:off x="7908840" y="3078000"/>
            <a:ext cx="25740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2306520"/>
                <a:tab algn="l" pos="2494080"/>
                <a:tab algn="l" pos="256068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62"/>
          <p:cNvSpPr/>
          <p:nvPr/>
        </p:nvSpPr>
        <p:spPr>
          <a:xfrm>
            <a:off x="7758000" y="3052800"/>
            <a:ext cx="25740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2306520"/>
                <a:tab algn="l" pos="2494080"/>
                <a:tab algn="l" pos="256068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63"/>
          <p:cNvSpPr/>
          <p:nvPr/>
        </p:nvSpPr>
        <p:spPr>
          <a:xfrm>
            <a:off x="7618320" y="3025800"/>
            <a:ext cx="25740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2306520"/>
                <a:tab algn="l" pos="2494080"/>
                <a:tab algn="l" pos="256068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64"/>
          <p:cNvSpPr/>
          <p:nvPr/>
        </p:nvSpPr>
        <p:spPr>
          <a:xfrm>
            <a:off x="7462800" y="3005280"/>
            <a:ext cx="25884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2306520"/>
                <a:tab algn="l" pos="2494080"/>
                <a:tab algn="l" pos="256068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65"/>
          <p:cNvSpPr/>
          <p:nvPr/>
        </p:nvSpPr>
        <p:spPr>
          <a:xfrm>
            <a:off x="7566120" y="3578400"/>
            <a:ext cx="25884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2306520"/>
                <a:tab algn="l" pos="2494080"/>
                <a:tab algn="l" pos="256068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66"/>
          <p:cNvSpPr/>
          <p:nvPr/>
        </p:nvSpPr>
        <p:spPr>
          <a:xfrm>
            <a:off x="7713720" y="3630600"/>
            <a:ext cx="25704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2306520"/>
                <a:tab algn="l" pos="2494080"/>
                <a:tab algn="l" pos="256068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67"/>
          <p:cNvSpPr/>
          <p:nvPr/>
        </p:nvSpPr>
        <p:spPr>
          <a:xfrm>
            <a:off x="7624800" y="3989520"/>
            <a:ext cx="25704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2306520"/>
                <a:tab algn="l" pos="2494080"/>
                <a:tab algn="l" pos="256068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68"/>
          <p:cNvSpPr/>
          <p:nvPr/>
        </p:nvSpPr>
        <p:spPr>
          <a:xfrm>
            <a:off x="7462800" y="3956040"/>
            <a:ext cx="25884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2306520"/>
                <a:tab algn="l" pos="2494080"/>
                <a:tab algn="l" pos="256068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Box 69"/>
          <p:cNvSpPr/>
          <p:nvPr/>
        </p:nvSpPr>
        <p:spPr>
          <a:xfrm>
            <a:off x="6983280" y="3592440"/>
            <a:ext cx="25740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2306520"/>
                <a:tab algn="l" pos="2494080"/>
                <a:tab algn="l" pos="256068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70"/>
          <p:cNvSpPr/>
          <p:nvPr/>
        </p:nvSpPr>
        <p:spPr>
          <a:xfrm>
            <a:off x="6966000" y="3701880"/>
            <a:ext cx="25704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2306520"/>
                <a:tab algn="l" pos="2494080"/>
                <a:tab algn="l" pos="256068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 Box 71"/>
          <p:cNvSpPr/>
          <p:nvPr/>
        </p:nvSpPr>
        <p:spPr>
          <a:xfrm>
            <a:off x="6924600" y="3828960"/>
            <a:ext cx="25740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2306520"/>
                <a:tab algn="l" pos="2494080"/>
                <a:tab algn="l" pos="256068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 Box 72"/>
          <p:cNvSpPr/>
          <p:nvPr/>
        </p:nvSpPr>
        <p:spPr>
          <a:xfrm>
            <a:off x="7319880" y="3417840"/>
            <a:ext cx="25740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2306520"/>
                <a:tab algn="l" pos="2494080"/>
                <a:tab algn="l" pos="256068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73"/>
          <p:cNvSpPr/>
          <p:nvPr/>
        </p:nvSpPr>
        <p:spPr>
          <a:xfrm>
            <a:off x="7299360" y="3513240"/>
            <a:ext cx="25704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2306520"/>
                <a:tab algn="l" pos="2494080"/>
                <a:tab algn="l" pos="256068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 Box 74"/>
          <p:cNvSpPr/>
          <p:nvPr/>
        </p:nvSpPr>
        <p:spPr>
          <a:xfrm>
            <a:off x="7272360" y="3605040"/>
            <a:ext cx="25704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2306520"/>
                <a:tab algn="l" pos="2494080"/>
                <a:tab algn="l" pos="256068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 Box 75"/>
          <p:cNvSpPr/>
          <p:nvPr/>
        </p:nvSpPr>
        <p:spPr>
          <a:xfrm>
            <a:off x="7189920" y="3701880"/>
            <a:ext cx="25704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2306520"/>
                <a:tab algn="l" pos="2494080"/>
                <a:tab algn="l" pos="256068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76"/>
          <p:cNvSpPr/>
          <p:nvPr/>
        </p:nvSpPr>
        <p:spPr>
          <a:xfrm>
            <a:off x="7155000" y="3808440"/>
            <a:ext cx="25704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2306520"/>
                <a:tab algn="l" pos="2494080"/>
                <a:tab algn="l" pos="256068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77"/>
          <p:cNvSpPr/>
          <p:nvPr/>
        </p:nvSpPr>
        <p:spPr>
          <a:xfrm>
            <a:off x="4444920" y="3471840"/>
            <a:ext cx="25740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2306520"/>
                <a:tab algn="l" pos="2494080"/>
                <a:tab algn="l" pos="256068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78"/>
          <p:cNvSpPr/>
          <p:nvPr/>
        </p:nvSpPr>
        <p:spPr>
          <a:xfrm>
            <a:off x="4856040" y="3524400"/>
            <a:ext cx="25740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2306520"/>
                <a:tab algn="l" pos="2494080"/>
                <a:tab algn="l" pos="256068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 Box 79"/>
          <p:cNvSpPr/>
          <p:nvPr/>
        </p:nvSpPr>
        <p:spPr>
          <a:xfrm>
            <a:off x="5181480" y="3581280"/>
            <a:ext cx="25740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2306520"/>
                <a:tab algn="l" pos="2494080"/>
                <a:tab algn="l" pos="256068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 Box 80"/>
          <p:cNvSpPr/>
          <p:nvPr/>
        </p:nvSpPr>
        <p:spPr>
          <a:xfrm>
            <a:off x="5388120" y="3282840"/>
            <a:ext cx="25704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2306520"/>
                <a:tab algn="l" pos="2494080"/>
                <a:tab algn="l" pos="256068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81"/>
          <p:cNvSpPr/>
          <p:nvPr/>
        </p:nvSpPr>
        <p:spPr>
          <a:xfrm>
            <a:off x="5697360" y="3695760"/>
            <a:ext cx="25740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2306520"/>
                <a:tab algn="l" pos="2494080"/>
                <a:tab algn="l" pos="256068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 Box 82"/>
          <p:cNvSpPr/>
          <p:nvPr/>
        </p:nvSpPr>
        <p:spPr>
          <a:xfrm>
            <a:off x="4856040" y="4210200"/>
            <a:ext cx="25740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2306520"/>
                <a:tab algn="l" pos="2494080"/>
                <a:tab algn="l" pos="256068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 Box 83"/>
          <p:cNvSpPr/>
          <p:nvPr/>
        </p:nvSpPr>
        <p:spPr>
          <a:xfrm>
            <a:off x="5234040" y="4210200"/>
            <a:ext cx="25704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2306520"/>
                <a:tab algn="l" pos="2494080"/>
                <a:tab algn="l" pos="256068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 Box 84"/>
          <p:cNvSpPr/>
          <p:nvPr/>
        </p:nvSpPr>
        <p:spPr>
          <a:xfrm>
            <a:off x="5491080" y="4210200"/>
            <a:ext cx="25740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2306520"/>
                <a:tab algn="l" pos="2494080"/>
                <a:tab algn="l" pos="256068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 Box 85"/>
          <p:cNvSpPr/>
          <p:nvPr/>
        </p:nvSpPr>
        <p:spPr>
          <a:xfrm>
            <a:off x="5851440" y="4363920"/>
            <a:ext cx="25884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2306520"/>
                <a:tab algn="l" pos="2494080"/>
                <a:tab algn="l" pos="256068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 Box 86"/>
          <p:cNvSpPr/>
          <p:nvPr/>
        </p:nvSpPr>
        <p:spPr>
          <a:xfrm>
            <a:off x="6272280" y="4387680"/>
            <a:ext cx="25884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2306520"/>
                <a:tab algn="l" pos="2494080"/>
                <a:tab algn="l" pos="256068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87"/>
          <p:cNvSpPr/>
          <p:nvPr/>
        </p:nvSpPr>
        <p:spPr>
          <a:xfrm>
            <a:off x="6108840" y="4673520"/>
            <a:ext cx="25704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2306520"/>
                <a:tab algn="l" pos="2494080"/>
                <a:tab algn="l" pos="256068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 Box 88"/>
          <p:cNvSpPr/>
          <p:nvPr/>
        </p:nvSpPr>
        <p:spPr>
          <a:xfrm>
            <a:off x="6037200" y="4840200"/>
            <a:ext cx="25740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2306520"/>
                <a:tab algn="l" pos="2494080"/>
                <a:tab algn="l" pos="256068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89"/>
          <p:cNvSpPr/>
          <p:nvPr/>
        </p:nvSpPr>
        <p:spPr>
          <a:xfrm>
            <a:off x="5954760" y="4981680"/>
            <a:ext cx="25704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2306520"/>
                <a:tab algn="l" pos="2494080"/>
                <a:tab algn="l" pos="256068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90"/>
          <p:cNvSpPr/>
          <p:nvPr/>
        </p:nvSpPr>
        <p:spPr>
          <a:xfrm>
            <a:off x="5845320" y="5064120"/>
            <a:ext cx="25704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2306520"/>
                <a:tab algn="l" pos="2494080"/>
                <a:tab algn="l" pos="256068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 Box 91"/>
          <p:cNvSpPr/>
          <p:nvPr/>
        </p:nvSpPr>
        <p:spPr>
          <a:xfrm>
            <a:off x="5703840" y="5105520"/>
            <a:ext cx="25740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2306520"/>
                <a:tab algn="l" pos="2494080"/>
                <a:tab algn="l" pos="256068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 Box 92"/>
          <p:cNvSpPr/>
          <p:nvPr/>
        </p:nvSpPr>
        <p:spPr>
          <a:xfrm>
            <a:off x="5518080" y="5141880"/>
            <a:ext cx="25884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2306520"/>
                <a:tab algn="l" pos="2494080"/>
                <a:tab algn="l" pos="256068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93"/>
          <p:cNvSpPr/>
          <p:nvPr/>
        </p:nvSpPr>
        <p:spPr>
          <a:xfrm>
            <a:off x="5234040" y="5156280"/>
            <a:ext cx="25704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2306520"/>
                <a:tab algn="l" pos="2494080"/>
                <a:tab algn="l" pos="256068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 Box 94"/>
          <p:cNvSpPr/>
          <p:nvPr/>
        </p:nvSpPr>
        <p:spPr>
          <a:xfrm>
            <a:off x="5029200" y="5181480"/>
            <a:ext cx="25704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2306520"/>
                <a:tab algn="l" pos="2494080"/>
                <a:tab algn="l" pos="256068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 Box 95"/>
          <p:cNvSpPr/>
          <p:nvPr/>
        </p:nvSpPr>
        <p:spPr>
          <a:xfrm>
            <a:off x="4816440" y="5208480"/>
            <a:ext cx="25704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2306520"/>
                <a:tab algn="l" pos="2494080"/>
                <a:tab algn="l" pos="256068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 Box 96"/>
          <p:cNvSpPr/>
          <p:nvPr/>
        </p:nvSpPr>
        <p:spPr>
          <a:xfrm>
            <a:off x="4668840" y="5443560"/>
            <a:ext cx="25704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2306520"/>
                <a:tab algn="l" pos="2494080"/>
                <a:tab algn="l" pos="256068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 Box 97"/>
          <p:cNvSpPr/>
          <p:nvPr/>
        </p:nvSpPr>
        <p:spPr>
          <a:xfrm>
            <a:off x="4618080" y="5059440"/>
            <a:ext cx="30780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2306520"/>
                <a:tab algn="l" pos="2494080"/>
                <a:tab algn="l" pos="256068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 Box 98"/>
          <p:cNvSpPr/>
          <p:nvPr/>
        </p:nvSpPr>
        <p:spPr>
          <a:xfrm>
            <a:off x="4276800" y="5091120"/>
            <a:ext cx="32868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2306520"/>
                <a:tab algn="l" pos="2494080"/>
                <a:tab algn="l" pos="256068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б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 Box 99"/>
          <p:cNvSpPr/>
          <p:nvPr/>
        </p:nvSpPr>
        <p:spPr>
          <a:xfrm>
            <a:off x="4154400" y="5289480"/>
            <a:ext cx="25740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2306520"/>
                <a:tab algn="l" pos="2494080"/>
                <a:tab algn="l" pos="256068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 Box 100"/>
          <p:cNvSpPr/>
          <p:nvPr/>
        </p:nvSpPr>
        <p:spPr>
          <a:xfrm>
            <a:off x="1962000" y="5214960"/>
            <a:ext cx="25884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2306520"/>
                <a:tab algn="l" pos="2494080"/>
                <a:tab algn="l" pos="256068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101"/>
          <p:cNvSpPr/>
          <p:nvPr/>
        </p:nvSpPr>
        <p:spPr>
          <a:xfrm>
            <a:off x="2035080" y="5392800"/>
            <a:ext cx="25740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2306520"/>
                <a:tab algn="l" pos="2494080"/>
                <a:tab algn="l" pos="256068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 Box 102"/>
          <p:cNvSpPr/>
          <p:nvPr/>
        </p:nvSpPr>
        <p:spPr>
          <a:xfrm rot="21112200">
            <a:off x="2955600" y="5367240"/>
            <a:ext cx="120168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2306520"/>
                <a:tab algn="l" pos="2494080"/>
                <a:tab algn="l" pos="256068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 39 37  35  33 3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 Box 103"/>
          <p:cNvSpPr/>
          <p:nvPr/>
        </p:nvSpPr>
        <p:spPr>
          <a:xfrm rot="20851200">
            <a:off x="2893680" y="3050640"/>
            <a:ext cx="120168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2306520"/>
                <a:tab algn="l" pos="2494080"/>
                <a:tab algn="l" pos="256068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    8   10 12 14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 Box 104"/>
          <p:cNvSpPr/>
          <p:nvPr/>
        </p:nvSpPr>
        <p:spPr>
          <a:xfrm rot="21112200">
            <a:off x="1486080" y="5522400"/>
            <a:ext cx="120312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2306520"/>
                <a:tab algn="l" pos="2494080"/>
                <a:tab algn="l" pos="256068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   47    45    4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 Box 105"/>
          <p:cNvSpPr/>
          <p:nvPr/>
        </p:nvSpPr>
        <p:spPr>
          <a:xfrm>
            <a:off x="811080" y="5573880"/>
            <a:ext cx="61776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t">
            <a:spAutoFit/>
          </a:bodyPr>
          <a:p>
            <a:pPr algn="just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2306520"/>
                <a:tab algn="l" pos="2494080"/>
                <a:tab algn="l" pos="256068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 53 5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Прямоугольник 53"/>
          <p:cNvSpPr/>
          <p:nvPr/>
        </p:nvSpPr>
        <p:spPr>
          <a:xfrm>
            <a:off x="5145120" y="2344680"/>
            <a:ext cx="449280" cy="11592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рямоугольник 53"/>
          <p:cNvSpPr/>
          <p:nvPr/>
        </p:nvSpPr>
        <p:spPr>
          <a:xfrm>
            <a:off x="5145120" y="2492280"/>
            <a:ext cx="449280" cy="11592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Прямоугольник 53"/>
          <p:cNvSpPr/>
          <p:nvPr/>
        </p:nvSpPr>
        <p:spPr>
          <a:xfrm>
            <a:off x="5916600" y="2333520"/>
            <a:ext cx="449280" cy="11592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Прямоугольник 53"/>
          <p:cNvSpPr/>
          <p:nvPr/>
        </p:nvSpPr>
        <p:spPr>
          <a:xfrm>
            <a:off x="5916600" y="2489040"/>
            <a:ext cx="449280" cy="11592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Прямоугольник 53"/>
          <p:cNvSpPr/>
          <p:nvPr/>
        </p:nvSpPr>
        <p:spPr>
          <a:xfrm>
            <a:off x="5916600" y="2637000"/>
            <a:ext cx="449280" cy="11556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Прямоугольник 53"/>
          <p:cNvSpPr/>
          <p:nvPr/>
        </p:nvSpPr>
        <p:spPr>
          <a:xfrm>
            <a:off x="3314880" y="4697280"/>
            <a:ext cx="139680" cy="5076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5040" bIns="5040"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рямоугольник 53"/>
          <p:cNvSpPr/>
          <p:nvPr/>
        </p:nvSpPr>
        <p:spPr>
          <a:xfrm>
            <a:off x="3379680" y="4908600"/>
            <a:ext cx="141480" cy="5076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5040" bIns="5040"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Прямоугольник 53"/>
          <p:cNvSpPr/>
          <p:nvPr/>
        </p:nvSpPr>
        <p:spPr>
          <a:xfrm>
            <a:off x="3584520" y="4724280"/>
            <a:ext cx="139680" cy="5076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5040" bIns="5040"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рямоугольник 53"/>
          <p:cNvSpPr/>
          <p:nvPr/>
        </p:nvSpPr>
        <p:spPr>
          <a:xfrm>
            <a:off x="3541680" y="4824360"/>
            <a:ext cx="139680" cy="5076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5040" bIns="5040"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Прямоугольник 53"/>
          <p:cNvSpPr/>
          <p:nvPr/>
        </p:nvSpPr>
        <p:spPr>
          <a:xfrm rot="20863800">
            <a:off x="4152960" y="4819320"/>
            <a:ext cx="206280" cy="5076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5040" bIns="5040"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Прямоугольник 53"/>
          <p:cNvSpPr/>
          <p:nvPr/>
        </p:nvSpPr>
        <p:spPr>
          <a:xfrm rot="20863800">
            <a:off x="4116240" y="4692240"/>
            <a:ext cx="204840" cy="5256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840" bIns="6840"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Прямоугольник 53"/>
          <p:cNvSpPr/>
          <p:nvPr/>
        </p:nvSpPr>
        <p:spPr>
          <a:xfrm rot="20863800">
            <a:off x="4486320" y="4750920"/>
            <a:ext cx="206280" cy="5076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5040" bIns="5040"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Прямоугольник 53"/>
          <p:cNvSpPr/>
          <p:nvPr/>
        </p:nvSpPr>
        <p:spPr>
          <a:xfrm rot="20863800">
            <a:off x="4444920" y="4600080"/>
            <a:ext cx="204840" cy="5076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5040" bIns="5040"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Прямоугольник 53"/>
          <p:cNvSpPr/>
          <p:nvPr/>
        </p:nvSpPr>
        <p:spPr>
          <a:xfrm rot="20863800">
            <a:off x="4024440" y="4433400"/>
            <a:ext cx="204840" cy="5076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5040" bIns="5040"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Прямоугольник 53"/>
          <p:cNvSpPr/>
          <p:nvPr/>
        </p:nvSpPr>
        <p:spPr>
          <a:xfrm rot="20863800">
            <a:off x="4075200" y="4566960"/>
            <a:ext cx="204840" cy="5076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5040" bIns="5040"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Прямоугольник 53"/>
          <p:cNvSpPr/>
          <p:nvPr/>
        </p:nvSpPr>
        <p:spPr>
          <a:xfrm rot="20863800">
            <a:off x="4350960" y="4370040"/>
            <a:ext cx="204840" cy="5220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Прямоугольник 53"/>
          <p:cNvSpPr/>
          <p:nvPr/>
        </p:nvSpPr>
        <p:spPr>
          <a:xfrm rot="20863800">
            <a:off x="4406760" y="4494240"/>
            <a:ext cx="206640" cy="5076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5040" bIns="5040"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Прямоугольник 53"/>
          <p:cNvSpPr/>
          <p:nvPr/>
        </p:nvSpPr>
        <p:spPr>
          <a:xfrm rot="20863800">
            <a:off x="4500720" y="4514760"/>
            <a:ext cx="52200" cy="11124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Прямоугольник 53"/>
          <p:cNvSpPr/>
          <p:nvPr/>
        </p:nvSpPr>
        <p:spPr>
          <a:xfrm rot="20863800">
            <a:off x="4400640" y="4346280"/>
            <a:ext cx="52200" cy="5076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5040" bIns="5040"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Прямоугольник 53"/>
          <p:cNvSpPr/>
          <p:nvPr/>
        </p:nvSpPr>
        <p:spPr>
          <a:xfrm>
            <a:off x="4452840" y="3654360"/>
            <a:ext cx="154080" cy="10152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Прямоугольник 55"/>
          <p:cNvSpPr/>
          <p:nvPr/>
        </p:nvSpPr>
        <p:spPr>
          <a:xfrm>
            <a:off x="4822920" y="3672000"/>
            <a:ext cx="50760" cy="14292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Прямоугольник 55"/>
          <p:cNvSpPr/>
          <p:nvPr/>
        </p:nvSpPr>
        <p:spPr>
          <a:xfrm>
            <a:off x="5054760" y="3672000"/>
            <a:ext cx="50760" cy="14292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Прямоугольник 55"/>
          <p:cNvSpPr/>
          <p:nvPr/>
        </p:nvSpPr>
        <p:spPr>
          <a:xfrm>
            <a:off x="4724280" y="3733920"/>
            <a:ext cx="301680" cy="9036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4640" bIns="44640"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Прямоугольник 55"/>
          <p:cNvSpPr/>
          <p:nvPr/>
        </p:nvSpPr>
        <p:spPr>
          <a:xfrm>
            <a:off x="5181480" y="3733920"/>
            <a:ext cx="252360" cy="9036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4640" bIns="44640"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РД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Прямоугольник 55"/>
          <p:cNvSpPr/>
          <p:nvPr/>
        </p:nvSpPr>
        <p:spPr>
          <a:xfrm>
            <a:off x="5423040" y="3500280"/>
            <a:ext cx="161640" cy="13356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Прямоугольник 55"/>
          <p:cNvSpPr/>
          <p:nvPr/>
        </p:nvSpPr>
        <p:spPr>
          <a:xfrm>
            <a:off x="5564160" y="3708360"/>
            <a:ext cx="160200" cy="13500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Прямоугольник 55"/>
          <p:cNvSpPr/>
          <p:nvPr/>
        </p:nvSpPr>
        <p:spPr>
          <a:xfrm>
            <a:off x="5872320" y="4254480"/>
            <a:ext cx="325440" cy="13320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Прямоугольник 55"/>
          <p:cNvSpPr/>
          <p:nvPr/>
        </p:nvSpPr>
        <p:spPr>
          <a:xfrm rot="21199200">
            <a:off x="4636800" y="5233680"/>
            <a:ext cx="204840" cy="13320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Прямоугольник 55"/>
          <p:cNvSpPr/>
          <p:nvPr/>
        </p:nvSpPr>
        <p:spPr>
          <a:xfrm rot="21199200">
            <a:off x="4355640" y="5262480"/>
            <a:ext cx="206640" cy="13356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Прямоугольник 55"/>
          <p:cNvSpPr/>
          <p:nvPr/>
        </p:nvSpPr>
        <p:spPr>
          <a:xfrm rot="20285400">
            <a:off x="2982600" y="6163920"/>
            <a:ext cx="103320" cy="20808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Freeform 136"/>
          <p:cNvSpPr/>
          <p:nvPr/>
        </p:nvSpPr>
        <p:spPr>
          <a:xfrm>
            <a:off x="603360" y="2036880"/>
            <a:ext cx="8540640" cy="4821120"/>
          </a:xfrm>
          <a:custGeom>
            <a:avLst/>
            <a:gdLst>
              <a:gd name="textAreaLeft" fmla="*/ 0 w 8540640"/>
              <a:gd name="textAreaRight" fmla="*/ 8541000 w 8540640"/>
              <a:gd name="textAreaTop" fmla="*/ 0 h 4821120"/>
              <a:gd name="textAreaBottom" fmla="*/ 4821480 h 4821120"/>
            </a:gdLst>
            <a:ahLst/>
            <a:rect l="textAreaLeft" t="textAreaTop" r="textAreaRight" b="textAreaBottom"/>
            <a:pathLst>
              <a:path w="7532" h="4252">
                <a:moveTo>
                  <a:pt x="7530" y="4199"/>
                </a:moveTo>
                <a:lnTo>
                  <a:pt x="0" y="4252"/>
                </a:lnTo>
                <a:lnTo>
                  <a:pt x="0" y="1801"/>
                </a:lnTo>
                <a:lnTo>
                  <a:pt x="1581" y="1403"/>
                </a:lnTo>
                <a:lnTo>
                  <a:pt x="3613" y="0"/>
                </a:lnTo>
                <a:lnTo>
                  <a:pt x="7457" y="21"/>
                </a:lnTo>
                <a:lnTo>
                  <a:pt x="7532" y="423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6080" rIns="46080" tIns="23040" bIns="2304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6" name="Прямая со стрелкой 282"/>
          <p:cNvCxnSpPr/>
          <p:nvPr/>
        </p:nvCxnSpPr>
        <p:spPr>
          <a:xfrm>
            <a:off x="3984480" y="1595520"/>
            <a:ext cx="974160" cy="122472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77" name="Group 60"/>
          <p:cNvGrpSpPr/>
          <p:nvPr/>
        </p:nvGrpSpPr>
        <p:grpSpPr>
          <a:xfrm>
            <a:off x="5311800" y="2400480"/>
            <a:ext cx="495000" cy="277560"/>
            <a:chOff x="5311800" y="2400480"/>
            <a:chExt cx="495000" cy="277560"/>
          </a:xfrm>
        </p:grpSpPr>
        <p:grpSp>
          <p:nvGrpSpPr>
            <p:cNvPr id="178" name="Group 61"/>
            <p:cNvGrpSpPr/>
            <p:nvPr/>
          </p:nvGrpSpPr>
          <p:grpSpPr>
            <a:xfrm>
              <a:off x="5406480" y="2423520"/>
              <a:ext cx="316440" cy="254520"/>
              <a:chOff x="5406480" y="2423520"/>
              <a:chExt cx="316440" cy="254520"/>
            </a:xfrm>
          </p:grpSpPr>
          <p:grpSp>
            <p:nvGrpSpPr>
              <p:cNvPr id="179" name="Group 62"/>
              <p:cNvGrpSpPr/>
              <p:nvPr/>
            </p:nvGrpSpPr>
            <p:grpSpPr>
              <a:xfrm>
                <a:off x="5406480" y="2423520"/>
                <a:ext cx="316440" cy="254520"/>
                <a:chOff x="5406480" y="2423520"/>
                <a:chExt cx="316440" cy="254520"/>
              </a:xfrm>
            </p:grpSpPr>
            <p:sp>
              <p:nvSpPr>
                <p:cNvPr id="180" name="Line 63"/>
                <p:cNvSpPr/>
                <p:nvPr/>
              </p:nvSpPr>
              <p:spPr>
                <a:xfrm>
                  <a:off x="5406480" y="2423520"/>
                  <a:ext cx="0" cy="2545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1" name="Line 64"/>
                <p:cNvSpPr/>
                <p:nvPr/>
              </p:nvSpPr>
              <p:spPr>
                <a:xfrm>
                  <a:off x="5415480" y="2423520"/>
                  <a:ext cx="304920" cy="324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2" name="Line 65"/>
                <p:cNvSpPr/>
                <p:nvPr/>
              </p:nvSpPr>
              <p:spPr>
                <a:xfrm flipV="1">
                  <a:off x="5418360" y="2531520"/>
                  <a:ext cx="304560" cy="37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3" name="Line 66"/>
                <p:cNvSpPr/>
                <p:nvPr/>
              </p:nvSpPr>
              <p:spPr>
                <a:xfrm>
                  <a:off x="5712840" y="2456280"/>
                  <a:ext cx="0" cy="727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84" name="Freeform 67"/>
              <p:cNvSpPr/>
              <p:nvPr/>
            </p:nvSpPr>
            <p:spPr>
              <a:xfrm>
                <a:off x="5424480" y="2434680"/>
                <a:ext cx="289080" cy="127080"/>
              </a:xfrm>
              <a:custGeom>
                <a:avLst/>
                <a:gdLst>
                  <a:gd name="textAreaLeft" fmla="*/ 0 w 289080"/>
                  <a:gd name="textAreaRight" fmla="*/ 289440 w 289080"/>
                  <a:gd name="textAreaTop" fmla="*/ 0 h 127080"/>
                  <a:gd name="textAreaBottom" fmla="*/ 127440 h 127080"/>
                </a:gdLst>
                <a:ahLst/>
                <a:rect l="textAreaLeft" t="textAreaTop" r="textAreaRight" b="textAreaBottom"/>
                <a:pathLst>
                  <a:path w="291" h="159">
                    <a:moveTo>
                      <a:pt x="0" y="0"/>
                    </a:moveTo>
                    <a:lnTo>
                      <a:pt x="0" y="159"/>
                    </a:lnTo>
                    <a:lnTo>
                      <a:pt x="291" y="114"/>
                    </a:lnTo>
                    <a:lnTo>
                      <a:pt x="291" y="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160" rIns="6516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5" name="Text Box 68"/>
            <p:cNvSpPr/>
            <p:nvPr/>
          </p:nvSpPr>
          <p:spPr>
            <a:xfrm>
              <a:off x="5311800" y="2400480"/>
              <a:ext cx="495000" cy="18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30600" bIns="30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53920"/>
                  <a:tab algn="l" pos="1708200"/>
                  <a:tab algn="l" pos="2562120"/>
                  <a:tab algn="l" pos="3416400"/>
                  <a:tab algn="l" pos="4270320"/>
                  <a:tab algn="l" pos="5124600"/>
                  <a:tab algn="l" pos="5978520"/>
                  <a:tab algn="l" pos="6832440"/>
                  <a:tab algn="l" pos="7686720"/>
                  <a:tab algn="l" pos="8540640"/>
                  <a:tab algn="l" pos="9394920"/>
                  <a:tab algn="l" pos="1024884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ПО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6" name="Rectangle 344"/>
          <p:cNvSpPr/>
          <p:nvPr/>
        </p:nvSpPr>
        <p:spPr>
          <a:xfrm>
            <a:off x="685800" y="0"/>
            <a:ext cx="59770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закрепления секторов оповещения и информирования населения населенного пункта д.Удмуртские Клю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7" name="Object 345"/>
          <p:cNvGraphicFramePr/>
          <p:nvPr/>
        </p:nvGraphicFramePr>
        <p:xfrm>
          <a:off x="5929200" y="285840"/>
          <a:ext cx="3000600" cy="525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8" name="Object 34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29200" y="285840"/>
                    <a:ext cx="3000600" cy="52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Rectangle 346"/>
          <p:cNvSpPr/>
          <p:nvPr/>
        </p:nvSpPr>
        <p:spPr>
          <a:xfrm>
            <a:off x="5850000" y="1015920"/>
            <a:ext cx="28922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УТВЕРЖДАЮ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Глава МО «Гулековское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Е.Г. Касаткин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«12» августа 2013 г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348"/>
          <p:cNvSpPr/>
          <p:nvPr/>
        </p:nvSpPr>
        <p:spPr>
          <a:xfrm>
            <a:off x="5791320" y="6461280"/>
            <a:ext cx="3352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Староста населенного пункта  Поздеева Г.Г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тел. _____________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Rectangle 349"/>
          <p:cNvSpPr/>
          <p:nvPr/>
        </p:nvSpPr>
        <p:spPr>
          <a:xfrm>
            <a:off x="2346120" y="990720"/>
            <a:ext cx="15721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 Удмуртские Клю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Rectangle 350"/>
          <p:cNvSpPr/>
          <p:nvPr/>
        </p:nvSpPr>
        <p:spPr>
          <a:xfrm>
            <a:off x="0" y="1447920"/>
            <a:ext cx="2050920" cy="21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3" name="Object 351"/>
          <p:cNvGraphicFramePr/>
          <p:nvPr/>
        </p:nvGraphicFramePr>
        <p:xfrm>
          <a:off x="0" y="1447920"/>
          <a:ext cx="2050920" cy="2133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4" name="Object 35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1447920"/>
                    <a:ext cx="2050920" cy="21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Oval 352"/>
          <p:cNvSpPr/>
          <p:nvPr/>
        </p:nvSpPr>
        <p:spPr>
          <a:xfrm>
            <a:off x="4572000" y="2895480"/>
            <a:ext cx="2209680" cy="180036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353"/>
          <p:cNvSpPr/>
          <p:nvPr/>
        </p:nvSpPr>
        <p:spPr>
          <a:xfrm>
            <a:off x="5105520" y="297180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Директор РДК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тел. _____________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7" name="Object 354"/>
          <p:cNvGraphicFramePr/>
          <p:nvPr/>
        </p:nvGraphicFramePr>
        <p:xfrm>
          <a:off x="5867280" y="3505320"/>
          <a:ext cx="457200" cy="533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8" name="Object 35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867280" y="3505320"/>
                    <a:ext cx="45720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Oval 355"/>
          <p:cNvSpPr/>
          <p:nvPr/>
        </p:nvSpPr>
        <p:spPr>
          <a:xfrm>
            <a:off x="2743200" y="3809880"/>
            <a:ext cx="3048120" cy="2743200"/>
          </a:xfrm>
          <a:prstGeom prst="ellipse">
            <a:avLst/>
          </a:prstGeom>
          <a:noFill/>
          <a:ln w="2844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0" name="Object 356"/>
          <p:cNvGraphicFramePr/>
          <p:nvPr/>
        </p:nvGraphicFramePr>
        <p:xfrm>
          <a:off x="3048120" y="3962520"/>
          <a:ext cx="1220760" cy="504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1" name="Object 35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48120" y="3962520"/>
                    <a:ext cx="122076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Object 357"/>
          <p:cNvGraphicFramePr/>
          <p:nvPr/>
        </p:nvGraphicFramePr>
        <p:xfrm>
          <a:off x="4876920" y="4495680"/>
          <a:ext cx="399960" cy="533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3" name="Object 35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876920" y="4495680"/>
                    <a:ext cx="3999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Rectangle 358"/>
          <p:cNvSpPr/>
          <p:nvPr/>
        </p:nvSpPr>
        <p:spPr>
          <a:xfrm>
            <a:off x="685800" y="2286000"/>
            <a:ext cx="8077320" cy="4267080"/>
          </a:xfrm>
          <a:prstGeom prst="rect">
            <a:avLst/>
          </a:prstGeom>
          <a:noFill/>
          <a:ln w="19080">
            <a:solidFill>
              <a:srgbClr val="66cc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Rectangle 359"/>
          <p:cNvSpPr/>
          <p:nvPr/>
        </p:nvSpPr>
        <p:spPr>
          <a:xfrm>
            <a:off x="2057400" y="2286000"/>
            <a:ext cx="190512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ектор №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тароста Поздеева Г.Г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тел. _____________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ул. Центральная, Полевая, Школьна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6" name="Object 360"/>
          <p:cNvGraphicFramePr/>
          <p:nvPr/>
        </p:nvGraphicFramePr>
        <p:xfrm>
          <a:off x="115920" y="3005280"/>
          <a:ext cx="361800" cy="37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07" name="Object 36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15920" y="3005280"/>
                    <a:ext cx="361800" cy="3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Rectangle 361"/>
          <p:cNvSpPr/>
          <p:nvPr/>
        </p:nvSpPr>
        <p:spPr>
          <a:xfrm>
            <a:off x="525240" y="2971800"/>
            <a:ext cx="157356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- сектор оповещения ферм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9" name="Object 80"/>
          <p:cNvGraphicFramePr/>
          <p:nvPr/>
        </p:nvGraphicFramePr>
        <p:xfrm>
          <a:off x="5935680" y="333360"/>
          <a:ext cx="2743200" cy="344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10" name="Object 8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935680" y="333360"/>
                    <a:ext cx="274320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7T15:40:38Z</dcterms:created>
  <dc:creator>Computer</dc:creator>
  <dc:description/>
  <dc:language>en-US</dc:language>
  <cp:lastModifiedBy>User</cp:lastModifiedBy>
  <cp:lastPrinted>2013-09-03T09:38:02Z</cp:lastPrinted>
  <dcterms:modified xsi:type="dcterms:W3CDTF">2013-09-03T09:39:05Z</dcterms:modified>
  <cp:revision>15</cp:revision>
  <dc:subject/>
  <dc:title>Презентация PowerPoint</dc:title>
</cp:coreProperties>
</file>